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850B-A39D-45BE-9776-1D3CC8E46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5966-5262-4900-81E4-342ADAA71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41529-86E3-46D8-B1B1-547D74FCA0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2512B-7D51-4973-864A-5FF1A1D6A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3BF1E-61AA-4FB3-8EE8-BCF579B62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65492-DE00-41DE-AB39-CC4DE7FB8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7A01-4D66-464D-84A7-8F84A7802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99A88-4E86-4820-88A6-2265810CE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61B8-2C10-40D4-9318-13EF0868A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79301-F21E-4619-8E12-887A079D8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CE79-3499-4B9F-84F3-D443FC311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9381-C58D-4905-B864-3581F57AC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B6458-0349-4D29-A8C0-D1769BA07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B1A65-AE28-464B-B59A-02391B0A4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96E23-D086-4456-9402-AD1F83FA7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DDCD-9B72-4F6F-90F9-68EDE471B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2236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87880" y="188568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2236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87880" y="4064760"/>
            <a:ext cx="263340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FA997E-CD8B-4AF9-A5AC-161424D91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E909E-3C25-47E3-8D5C-D7CD936A8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5EDB9-FD10-4BA8-8343-543FBF52F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AEE13-6437-4F85-8AA6-90F911E8E6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06440" y="2282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9B517-0E0B-4FA9-AFFB-15A64076E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FD81-C954-460E-9F78-1B6E23C41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47600" y="406476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D9482-9CA7-4563-A6D1-32A4108F1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47600" y="1885680"/>
            <a:ext cx="399096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4064760"/>
            <a:ext cx="8178840" cy="19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57A1-B087-4B08-BC58-D2E0B2444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85680"/>
            <a:ext cx="817884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33cc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cc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17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DB2E6-D6EE-4674-8E65-17AE8829C34F}" type="slidenum">
              <a:rPr b="0" lang="en-US" sz="1400" spc="-1" strike="noStrike">
                <a:solidFill>
                  <a:srgbClr val="33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6854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cc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cc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cc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3AF27-71E0-46B6-BCF8-0EBDCCA289BC}" type="slidenum">
              <a:rPr b="0" lang="en-US" sz="1400" spc="-1" strike="noStrike">
                <a:solidFill>
                  <a:srgbClr val="00cc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cccc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33cccc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33cccc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ict4lt.org/" TargetMode="External"/><Relationship Id="rId2" Type="http://schemas.openxmlformats.org/officeDocument/2006/relationships/hyperlink" Target="http://www.ict4lt.org/" TargetMode="External"/><Relationship Id="rId3" Type="http://schemas.openxmlformats.org/officeDocument/2006/relationships/hyperlink" Target="http://www.ict4lt.org/" TargetMode="External"/><Relationship Id="rId4" Type="http://schemas.openxmlformats.org/officeDocument/2006/relationships/hyperlink" Target="http://www.ict4lt.org/" TargetMode="External"/><Relationship Id="rId5" Type="http://schemas.openxmlformats.org/officeDocument/2006/relationships/hyperlink" Target="http://www.ict4lt.org/" TargetMode="External"/><Relationship Id="rId6" Type="http://schemas.openxmlformats.org/officeDocument/2006/relationships/image" Target="../media/image1.jpeg"/><Relationship Id="rId7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733560"/>
            <a:ext cx="8382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  <a:hlinkClick r:id="rId1"/>
              </a:rPr>
              <a:t>http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  <a:hlinkClick r:id="rId2"/>
              </a:rPr>
              <a:t>://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  <a:hlinkClick r:id="rId3"/>
              </a:rPr>
              <a:t>www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  <a:hlinkClick r:id="rId4"/>
              </a:rPr>
              <a:t>.ict4lt.</a:t>
            </a:r>
            <a:r>
              <a:rPr b="0" lang="en-US" sz="4000" spc="-1" strike="noStrike" u="sng">
                <a:solidFill>
                  <a:srgbClr val="ff00ff"/>
                </a:solidFill>
                <a:uFillTx/>
                <a:latin typeface="Arial"/>
                <a:hlinkClick r:id="rId5"/>
              </a:rPr>
              <a:t>org_x000b_</a:t>
            </a:r>
            <a:br>
              <a:rPr sz="4000"/>
            </a:b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A slide with a picture and sound...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pic>
        <p:nvPicPr>
          <p:cNvPr id="83" name="ICT4LT_Logo" descr=""/>
          <p:cNvPicPr/>
          <p:nvPr/>
        </p:nvPicPr>
        <p:blipFill>
          <a:blip r:embed="rId6"/>
          <a:stretch/>
        </p:blipFill>
        <p:spPr>
          <a:xfrm>
            <a:off x="2517840" y="304920"/>
            <a:ext cx="3959280" cy="30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0644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99"/>
                </a:solidFill>
                <a:latin typeface="Arial"/>
              </a:rPr>
              <a:t>Click on the loudspeaker...</a:t>
            </a:r>
            <a:endParaRPr b="1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Hello, my name is Graham Dav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6" name="GrahamWorldCALLSmall" descr=""/>
          <p:cNvPicPr/>
          <p:nvPr/>
        </p:nvPicPr>
        <p:blipFill>
          <a:blip r:embed="rId1"/>
          <a:stretch/>
        </p:blipFill>
        <p:spPr>
          <a:xfrm>
            <a:off x="3618000" y="2895480"/>
            <a:ext cx="2020680" cy="220356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4419720" y="563868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CT4LT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2CCC2-BA2C-43A5-B8F1-2C319A8F811B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Demo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5-21T16:13:25Z</dcterms:created>
  <dc:creator>Graham Davies</dc:creator>
  <dc:description/>
  <dc:language>en-US</dc:language>
  <cp:lastModifiedBy>Davies</cp:lastModifiedBy>
  <cp:lastPrinted>2000-05-22T09:17:47Z</cp:lastPrinted>
  <dcterms:modified xsi:type="dcterms:W3CDTF">2001-10-12T10:11:20Z</dcterms:modified>
  <cp:revision>18</cp:revision>
  <dc:subject/>
  <dc:title>The ICT4LT Project</dc:title>
</cp:coreProperties>
</file>